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45EDB-CAFD-48A2-8EF0-E24D7068E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for the nitroge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makes up 79% of the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is necessary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phosphorus is used to make matc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ium Arsenide is a good semiconductor used in compu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a (containing nitrogen) is used in everything from fertilizers to household cleaners.  It is secreted in your ur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79AA6-80C7-460A-8ED8-8F08BB9F1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need to know the names of the families and their properties! The Lanthanides and the Actinides are transition metals as wel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2FE17-15A2-4713-AF93-7F4662948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roups (vertical columns found in the periodic table) are called families.  Note that the transition metals are not on this l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lements in each group (or family) share many physical and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xt lecture we will be discussing trends in the periodic table.  However, one trend in the periodic table is that elements of the same family share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4082F-468E-48C2-A4B4-3F7FCEF30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boro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on is a metalloid, the others are me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abundant in the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density, light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3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72F98-FC26-4611-ABD9-C43749845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boro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 is everywhere in your life…foil, cans, your bike, c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s rusting (corros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long electric cables to conduct electricity over great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ium will melt in your 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A998D-942F-4853-99E7-CEE53CCA0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carbo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4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t with almost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share, rather than lose or gain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abunda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be dark in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667E4-A6AC-406F-BED0-B76587F16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carbo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is found in sand and is used to make glass, computer chips, breast implants, and sea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glass does not break when heated (this is what Pyrex glass is made from in the lab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as a protective coating for steel to prevent r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in batte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poisonous, particularly to growing children and teens.  It causes brain damage.  It is often found in pain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CC9B0-1F5E-47D1-8393-EC71F4124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nitroge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5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in proteins an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bismuth is a good conductor of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is a gas, the others are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93B2C-DB64-4E19-BF39-2DE146316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BE1-9FE8-404D-9A01-AD899DE8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FFA-37AF-4787-8927-9EF9FA5A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F59-CA0B-4617-846D-B4F3F01A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7A7-CA9C-433E-B4B7-77B2E894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A5A-4933-4B7B-968D-9400B29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140-2F6F-4802-9AA8-CE90AC51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0E7-488C-453F-9B39-C961A19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027-3415-458F-B203-7DFA1DC6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931-D13B-44D8-8038-C02CD4EB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721-A24C-44C1-BB7B-EE6F14F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C3A-8551-44EC-BD29-74D9AA2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8C7-96BD-4280-B9F9-B3A24AE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E5590-4A27-4B7F-BC42-551A10EED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: Families of 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1406520" y="4678200"/>
            <a:ext cx="3286080" cy="217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4664160" y="285840"/>
            <a:ext cx="44798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o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troge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68240" y="4343400"/>
            <a:ext cx="7543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824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tha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4456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36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68240" y="4876920"/>
            <a:ext cx="7543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20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360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778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3216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644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4072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9500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3780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378080" y="4038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5492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54928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98756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 rot="16243800">
            <a:off x="-296640" y="225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 rot="16225200">
            <a:off x="-357840" y="2313360"/>
            <a:ext cx="297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 rot="16222200">
            <a:off x="7208640" y="244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 rot="16205400">
            <a:off x="7551360" y="2405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6200000">
            <a:off x="5227200" y="255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16219200">
            <a:off x="5570280" y="2513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16171200">
            <a:off x="5951160" y="251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6200000">
            <a:off x="6484680" y="2589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80880" y="1752480"/>
            <a:ext cx="8153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(Group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(Group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 (Group 3 or 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 (Group 4 or 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 (Group 5 or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 (Group 6 or 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(Group 7 or 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Group 8 or 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2"/>
          <p:cNvSpPr txBox="1"/>
          <p:nvPr/>
        </p:nvSpPr>
        <p:spPr>
          <a:xfrm>
            <a:off x="2057400" y="3808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ain Group Elem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304920" y="304920"/>
            <a:ext cx="41749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Boron Famil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1859040"/>
            <a:ext cx="6456240" cy="39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5867280" y="4273560"/>
            <a:ext cx="3276720" cy="2584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456240" y="598320"/>
            <a:ext cx="261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ron family includes boron (B), aluminum (Al), gallium (Ga), indium (In), and thallium (T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681360" y="2760840"/>
            <a:ext cx="5462640" cy="409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340240" cy="368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0" y="4257720"/>
            <a:ext cx="30481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04920" y="380880"/>
            <a:ext cx="52988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Carbon Famil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33960" y="87012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rbon family includes carbon (C), silicon (Si), germanium (Ge), tin (Sn), and lead (Pb).  Carbon is a nonmetal, silicon and germanium are metalloids, and tin and lead are met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6172200" y="462924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5081760" y="63453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0" y="1623960"/>
            <a:ext cx="603396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00480" y="3595680"/>
            <a:ext cx="3898800" cy="32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8447040" y="2971800"/>
            <a:ext cx="696960" cy="388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17440" y="419112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76800" y="2052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85840" y="20520"/>
            <a:ext cx="445752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304920" y="380880"/>
            <a:ext cx="4956120" cy="13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trogen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261040" y="0"/>
            <a:ext cx="388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itrogen family includes nitrogen (N), phosphorous (P), arsenic (As), antimony (Sb), and bismuth (Bi).  Nitrogen and phosphorous are nonmetals, arsenic and antimony are metalloids, and bismuth is a me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19200" t="0" r="19200" b="0"/>
          <a:stretch/>
        </p:blipFill>
        <p:spPr>
          <a:xfrm>
            <a:off x="6734160" y="3809880"/>
            <a:ext cx="240984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0" y="3025800"/>
            <a:ext cx="68389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3:23:39Z</dcterms:created>
  <dc:creator>Staff</dc:creator>
  <dc:description/>
  <dc:language>en-US</dc:language>
  <cp:lastModifiedBy>Staff</cp:lastModifiedBy>
  <dcterms:modified xsi:type="dcterms:W3CDTF">2014-05-15T13:39:39Z</dcterms:modified>
  <cp:revision>2</cp:revision>
  <dc:subject/>
  <dc:title>Lecture: Families of the Periodic Table</dc:title>
</cp:coreProperties>
</file>